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35F2-7EAC-4EE6-B526-2FBE089C2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duction to ENERGY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sed August 4,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ry organism has a habitat  where it lives and a niche which is its role or job in the eco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Have the students give examples of habitats and niches for different organisms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s from The Goulds and from kudududu at WebPhot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ganism is a single living th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pulation is the number of individuals of the same species in the same place at the same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unity is all of the different populations living in a given area and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osystem is all of the communities (biotic) and all of the physical factors (abiotic) in an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sphere is all of the areas on earth where organisms l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5EF-88B8-483E-A728-1AEF27A5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54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769-99E6-4994-A554-DF240CA2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80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81E-171E-45C1-9793-056DDE07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34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10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54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34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10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CB5-167B-4BF3-9A28-C6CBA079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3BCC-EF5D-41D4-8803-96D6D8C9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CE34-2E98-4493-8E52-EB772A81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F4C0-7462-48C9-B63D-C1859DD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F15C-8EFE-4109-985E-716F100A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557D-F587-481A-8DF8-A6227B86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3348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0F5B-25B6-40B2-8C24-EFD5F9C6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9151-F234-4FA8-90A3-D0DB921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196-0A7F-4509-B748-846F1106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80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086C-B724-4B16-8375-C365DAF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3DD2-00B2-4F7F-B9B2-0880E11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54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262-B550-47A7-950F-D62D8FD5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80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4968-53A2-4677-AEE0-89FB731E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234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10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54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234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10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1AE5-1021-4D12-BB7E-0EEBE8E3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1DB-DF2A-4B0C-AF0A-707B3718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8DD-7788-4246-B101-930908CC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153-773A-494F-ACEC-3D94A2B8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3348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9C7-0A9F-4390-93D2-1EFF7485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D2C-5AF5-4DBE-A735-2DF7A10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80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EEB-46C9-452A-B680-73396D6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32A-A1B5-472E-9230-B5728B73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A7F2-D6B3-4C3F-8923-B88734472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3807-FE99-43B3-8D03-2FBD5DB4A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795240" algn="ctr">
              <a:spcBef>
                <a:spcPts val="9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193040" algn="ctr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59084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590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590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68280" y="1961640"/>
            <a:ext cx="7483680" cy="26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3300"/>
                </a:solidFill>
                <a:latin typeface="Arial Black"/>
              </a:rPr>
              <a:t>ECOLOGICAL RELATIONSHIPS</a:t>
            </a:r>
            <a:endParaRPr b="0" lang="en-US" sz="55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514600" y="546120"/>
            <a:ext cx="4800600" cy="1295280"/>
            <a:chOff x="2514600" y="546120"/>
            <a:chExt cx="4800600" cy="1295280"/>
          </a:xfrm>
        </p:grpSpPr>
        <p:sp>
          <p:nvSpPr>
            <p:cNvPr id="153" name=""/>
            <p:cNvSpPr/>
            <p:nvPr/>
          </p:nvSpPr>
          <p:spPr>
            <a:xfrm>
              <a:off x="2514600" y="546120"/>
              <a:ext cx="4800600" cy="12952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6880" y="622440"/>
              <a:ext cx="464832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Relationships Between Organisms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057400" y="2832120"/>
            <a:ext cx="2590920" cy="1143000"/>
            <a:chOff x="2057400" y="2832120"/>
            <a:chExt cx="2590920" cy="1143000"/>
          </a:xfrm>
        </p:grpSpPr>
        <p:sp>
          <p:nvSpPr>
            <p:cNvPr id="156" name=""/>
            <p:cNvSpPr/>
            <p:nvPr/>
          </p:nvSpPr>
          <p:spPr>
            <a:xfrm>
              <a:off x="2057400" y="2832120"/>
              <a:ext cx="2590920" cy="114300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0" y="3060720"/>
              <a:ext cx="20574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Symbiosis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3123720" y="1841400"/>
            <a:ext cx="2057400" cy="9907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52120" y="3975120"/>
            <a:ext cx="1295640" cy="9144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8080" y="4889520"/>
            <a:ext cx="2133720" cy="914400"/>
            <a:chOff x="838080" y="4889520"/>
            <a:chExt cx="2133720" cy="914400"/>
          </a:xfrm>
        </p:grpSpPr>
        <p:sp>
          <p:nvSpPr>
            <p:cNvPr id="161" name=""/>
            <p:cNvSpPr/>
            <p:nvPr/>
          </p:nvSpPr>
          <p:spPr>
            <a:xfrm>
              <a:off x="838080" y="4889520"/>
              <a:ext cx="2133720" cy="91440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400" y="50418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3300"/>
                  </a:solidFill>
                  <a:latin typeface="Times New Roman"/>
                </a:rPr>
                <a:t>parasitis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00400" y="4889520"/>
            <a:ext cx="2514600" cy="914400"/>
            <a:chOff x="3200400" y="4889520"/>
            <a:chExt cx="2514600" cy="914400"/>
          </a:xfrm>
        </p:grpSpPr>
        <p:sp>
          <p:nvSpPr>
            <p:cNvPr id="164" name=""/>
            <p:cNvSpPr/>
            <p:nvPr/>
          </p:nvSpPr>
          <p:spPr>
            <a:xfrm>
              <a:off x="3200400" y="4889520"/>
              <a:ext cx="2514600" cy="91440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52680" y="5041800"/>
              <a:ext cx="21337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663300"/>
                  </a:solidFill>
                  <a:latin typeface="Times New Roman"/>
                </a:rPr>
                <a:t>mutualism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829480" y="4902120"/>
            <a:ext cx="3124080" cy="914400"/>
            <a:chOff x="5829480" y="4902120"/>
            <a:chExt cx="3124080" cy="914400"/>
          </a:xfrm>
        </p:grpSpPr>
        <p:sp>
          <p:nvSpPr>
            <p:cNvPr id="167" name=""/>
            <p:cNvSpPr/>
            <p:nvPr/>
          </p:nvSpPr>
          <p:spPr>
            <a:xfrm>
              <a:off x="5829480" y="4902120"/>
              <a:ext cx="3124080" cy="91440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1760" y="5054400"/>
              <a:ext cx="29718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663300"/>
                  </a:solidFill>
                  <a:latin typeface="Times New Roman"/>
                </a:rPr>
                <a:t>commensalism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86200" y="3975120"/>
            <a:ext cx="0" cy="9144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3975120"/>
            <a:ext cx="2514600" cy="9144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222640"/>
            <a:ext cx="2133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two organisms that live in close contact to each other for long periods of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648320" y="2679840"/>
            <a:ext cx="1371600" cy="38088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981080" y="228600"/>
            <a:ext cx="4800600" cy="1295280"/>
            <a:chOff x="1981080" y="228600"/>
            <a:chExt cx="4800600" cy="1295280"/>
          </a:xfrm>
        </p:grpSpPr>
        <p:sp>
          <p:nvSpPr>
            <p:cNvPr id="174" name=""/>
            <p:cNvSpPr/>
            <p:nvPr/>
          </p:nvSpPr>
          <p:spPr>
            <a:xfrm>
              <a:off x="1981080" y="228600"/>
              <a:ext cx="4800600" cy="12952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304920"/>
              <a:ext cx="464796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Relationships Between Organisms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86200" y="1523880"/>
            <a:ext cx="1523880" cy="1219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24280" y="2743200"/>
            <a:ext cx="3276720" cy="1066680"/>
            <a:chOff x="4724280" y="2743200"/>
            <a:chExt cx="3276720" cy="1066680"/>
          </a:xfrm>
        </p:grpSpPr>
        <p:sp>
          <p:nvSpPr>
            <p:cNvPr id="178" name=""/>
            <p:cNvSpPr/>
            <p:nvPr/>
          </p:nvSpPr>
          <p:spPr>
            <a:xfrm>
              <a:off x="4724280" y="2743200"/>
              <a:ext cx="3276720" cy="10666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2880" y="2971800"/>
              <a:ext cx="2819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Not Symbiosis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5105520"/>
            <a:ext cx="2514600" cy="1066680"/>
            <a:chOff x="2362320" y="5105520"/>
            <a:chExt cx="2514600" cy="1066680"/>
          </a:xfrm>
        </p:grpSpPr>
        <p:sp>
          <p:nvSpPr>
            <p:cNvPr id="181" name=""/>
            <p:cNvSpPr/>
            <p:nvPr/>
          </p:nvSpPr>
          <p:spPr>
            <a:xfrm>
              <a:off x="2362320" y="5105520"/>
              <a:ext cx="2514600" cy="10666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5334120"/>
              <a:ext cx="23623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663300"/>
                  </a:solidFill>
                  <a:latin typeface="Times New Roman"/>
                </a:rPr>
                <a:t>competition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867280" y="5029200"/>
            <a:ext cx="2438640" cy="1066680"/>
            <a:chOff x="5867280" y="5029200"/>
            <a:chExt cx="2438640" cy="1066680"/>
          </a:xfrm>
        </p:grpSpPr>
        <p:sp>
          <p:nvSpPr>
            <p:cNvPr id="184" name=""/>
            <p:cNvSpPr/>
            <p:nvPr/>
          </p:nvSpPr>
          <p:spPr>
            <a:xfrm>
              <a:off x="5867280" y="5029200"/>
              <a:ext cx="2438640" cy="10666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5257800"/>
              <a:ext cx="2133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predation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3809880" y="3809880"/>
            <a:ext cx="1828800" cy="129564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809880"/>
            <a:ext cx="1066680" cy="1219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Arial Black"/>
              </a:rPr>
              <a:t>Ecological Relationships Lab</a:t>
            </a:r>
            <a:endParaRPr b="0" lang="en-US" sz="45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  <a:ea typeface="Times New Roman"/>
              </a:rPr>
              <a:t>A lichen is a relationship between a fungus and an algae.  The fungus provides nutrients to the algae and the algae provides food for the fungus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  <a:ea typeface="Times New Roman"/>
              </a:rPr>
              <a:t>The algae gets nutrients (benefits) and the fungus gets food (benefits)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884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5040" y="1076040"/>
            <a:ext cx="7869240" cy="22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very organism has a </a:t>
            </a: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habitat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 where it lives and a </a:t>
            </a: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niche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which is its role or job in the ecosystem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2760" y="3639960"/>
            <a:ext cx="3981600" cy="2981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14960" y="2840040"/>
            <a:ext cx="372744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84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04920" y="1165320"/>
            <a:ext cx="537048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rganism is a single living thing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72240" y="965160"/>
            <a:ext cx="1836720" cy="2470320"/>
            <a:chOff x="6672240" y="965160"/>
            <a:chExt cx="1836720" cy="2470320"/>
          </a:xfrm>
        </p:grpSpPr>
        <p:sp>
          <p:nvSpPr>
            <p:cNvPr id="99" name=""/>
            <p:cNvSpPr/>
            <p:nvPr/>
          </p:nvSpPr>
          <p:spPr>
            <a:xfrm>
              <a:off x="6731280" y="2735280"/>
              <a:ext cx="1719000" cy="400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6672240" y="965160"/>
              <a:ext cx="1836720" cy="247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13000" y="2717640"/>
            <a:ext cx="506412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116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2040" y="1015560"/>
            <a:ext cx="6262560" cy="21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Population is the number of individuals of the </a:t>
            </a:r>
            <a:r>
              <a:rPr b="0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same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species in the same place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140600" y="973080"/>
            <a:ext cx="1836720" cy="2470320"/>
            <a:chOff x="7140600" y="973080"/>
            <a:chExt cx="1836720" cy="2470320"/>
          </a:xfrm>
        </p:grpSpPr>
        <p:sp>
          <p:nvSpPr>
            <p:cNvPr id="105" name=""/>
            <p:cNvSpPr/>
            <p:nvPr/>
          </p:nvSpPr>
          <p:spPr>
            <a:xfrm>
              <a:off x="7219800" y="2333520"/>
              <a:ext cx="1700280" cy="409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140600" y="973080"/>
              <a:ext cx="1836720" cy="247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60400" y="3422520"/>
            <a:ext cx="5796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24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5883120" cy="193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ommunity is all of the </a:t>
            </a:r>
            <a:r>
              <a:rPr b="0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different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populations living in a given area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093080" y="887400"/>
            <a:ext cx="1836720" cy="2470320"/>
            <a:chOff x="7093080" y="887400"/>
            <a:chExt cx="1836720" cy="2470320"/>
          </a:xfrm>
        </p:grpSpPr>
        <p:sp>
          <p:nvSpPr>
            <p:cNvPr id="111" name=""/>
            <p:cNvSpPr/>
            <p:nvPr/>
          </p:nvSpPr>
          <p:spPr>
            <a:xfrm>
              <a:off x="7177320" y="1805040"/>
              <a:ext cx="1700280" cy="409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7093080" y="887400"/>
              <a:ext cx="1836720" cy="247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1208160" y="2678040"/>
            <a:ext cx="6526080" cy="4065840"/>
            <a:chOff x="1208160" y="2678040"/>
            <a:chExt cx="6526080" cy="40658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384880" y="4981680"/>
              <a:ext cx="2349360" cy="17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5446800" y="2678040"/>
              <a:ext cx="16732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1208160" y="2765520"/>
              <a:ext cx="275112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1795320" y="4981680"/>
              <a:ext cx="26784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3556080" y="3726000"/>
              <a:ext cx="2220840" cy="16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348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91960" y="1031400"/>
            <a:ext cx="5972040" cy="24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Ecosystem is all of the communities (biotic) and all of the physical factors (abiotic) in an area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062840" y="982800"/>
            <a:ext cx="1836720" cy="2469960"/>
            <a:chOff x="7062840" y="982800"/>
            <a:chExt cx="1836720" cy="2469960"/>
          </a:xfrm>
        </p:grpSpPr>
        <p:sp>
          <p:nvSpPr>
            <p:cNvPr id="122" name=""/>
            <p:cNvSpPr/>
            <p:nvPr/>
          </p:nvSpPr>
          <p:spPr>
            <a:xfrm>
              <a:off x="7137720" y="1458720"/>
              <a:ext cx="1699920" cy="409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062840" y="982800"/>
              <a:ext cx="1836720" cy="24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70200" y="3654360"/>
            <a:ext cx="5599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348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30120" y="1209240"/>
            <a:ext cx="5197320" cy="19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Biosphere is all of the areas on earth where organisms live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54680" y="977760"/>
            <a:ext cx="1836720" cy="2470320"/>
            <a:chOff x="6754680" y="977760"/>
            <a:chExt cx="1836720" cy="2470320"/>
          </a:xfrm>
        </p:grpSpPr>
        <p:grpSp>
          <p:nvGrpSpPr>
            <p:cNvPr id="128" name=""/>
            <p:cNvGrpSpPr/>
            <p:nvPr/>
          </p:nvGrpSpPr>
          <p:grpSpPr>
            <a:xfrm>
              <a:off x="6834240" y="1019160"/>
              <a:ext cx="1700280" cy="382680"/>
              <a:chOff x="6834240" y="1019160"/>
              <a:chExt cx="1700280" cy="382680"/>
            </a:xfrm>
          </p:grpSpPr>
          <p:sp>
            <p:nvSpPr>
              <p:cNvPr id="129" name=""/>
              <p:cNvSpPr/>
              <p:nvPr/>
            </p:nvSpPr>
            <p:spPr>
              <a:xfrm>
                <a:off x="6834240" y="1087560"/>
                <a:ext cx="1700280" cy="3142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05840" y="1019160"/>
                <a:ext cx="709560" cy="3049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6754680" y="977760"/>
              <a:ext cx="1836720" cy="247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01680" y="3876840"/>
            <a:ext cx="5453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logical Relationship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parasitism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mutualism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commensalism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predation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competition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62120" y="343080"/>
          <a:ext cx="8381880" cy="462744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Organism 1</a:t>
                      </a:r>
                      <a:endParaRPr b="0" lang="en-US" sz="3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Organism 2</a:t>
                      </a:r>
                      <a:endParaRPr b="0" lang="en-US" sz="3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Parasitism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Mutualism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Commensalism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Pred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Competi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838080" y="5432400"/>
            <a:ext cx="8305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Key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+ (benefits)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- (harmed)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0 (not affected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8480" y="1066680"/>
            <a:ext cx="3403440" cy="677880"/>
            <a:chOff x="4578480" y="1066680"/>
            <a:chExt cx="3403440" cy="677880"/>
          </a:xfrm>
        </p:grpSpPr>
        <p:sp>
          <p:nvSpPr>
            <p:cNvPr id="138" name=""/>
            <p:cNvSpPr/>
            <p:nvPr/>
          </p:nvSpPr>
          <p:spPr>
            <a:xfrm>
              <a:off x="4578480" y="119376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86560" y="106668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78480" y="1981080"/>
            <a:ext cx="3429000" cy="576360"/>
            <a:chOff x="4578480" y="1981080"/>
            <a:chExt cx="3429000" cy="576360"/>
          </a:xfrm>
        </p:grpSpPr>
        <p:sp>
          <p:nvSpPr>
            <p:cNvPr id="141" name=""/>
            <p:cNvSpPr/>
            <p:nvPr/>
          </p:nvSpPr>
          <p:spPr>
            <a:xfrm>
              <a:off x="4578480" y="198108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1360" y="200664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8480" y="2768760"/>
            <a:ext cx="3403440" cy="627480"/>
            <a:chOff x="4578480" y="2768760"/>
            <a:chExt cx="3403440" cy="627480"/>
          </a:xfrm>
        </p:grpSpPr>
        <p:sp>
          <p:nvSpPr>
            <p:cNvPr id="144" name=""/>
            <p:cNvSpPr/>
            <p:nvPr/>
          </p:nvSpPr>
          <p:spPr>
            <a:xfrm>
              <a:off x="4578480" y="279396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86560" y="276876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0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578480" y="3543480"/>
            <a:ext cx="3403440" cy="627480"/>
            <a:chOff x="4578480" y="3543480"/>
            <a:chExt cx="3403440" cy="627480"/>
          </a:xfrm>
        </p:grpSpPr>
        <p:sp>
          <p:nvSpPr>
            <p:cNvPr id="147" name=""/>
            <p:cNvSpPr/>
            <p:nvPr/>
          </p:nvSpPr>
          <p:spPr>
            <a:xfrm>
              <a:off x="4578480" y="355608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6560" y="354348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603680" y="4280040"/>
            <a:ext cx="3378240" cy="665280"/>
            <a:chOff x="4603680" y="4280040"/>
            <a:chExt cx="3378240" cy="665280"/>
          </a:xfrm>
        </p:grpSpPr>
        <p:sp>
          <p:nvSpPr>
            <p:cNvPr id="150" name=""/>
            <p:cNvSpPr/>
            <p:nvPr/>
          </p:nvSpPr>
          <p:spPr>
            <a:xfrm>
              <a:off x="4603680" y="428004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86560" y="431784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0:17:36Z</dcterms:created>
  <dc:creator>Type your name here</dc:creator>
  <dc:description/>
  <dc:language>en-US</dc:language>
  <cp:lastModifiedBy>Plano ISD</cp:lastModifiedBy>
  <cp:lastPrinted>2001-10-10T11:38:18Z</cp:lastPrinted>
  <dcterms:modified xsi:type="dcterms:W3CDTF">2004-08-19T16:02:03Z</dcterms:modified>
  <cp:revision>91</cp:revision>
  <dc:subject/>
  <dc:title>ECOLOGY STUDY GUIDE</dc:title>
</cp:coreProperties>
</file>